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8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5.gif" ContentType="image/gif"/>
  <Override PartName="/ppt/media/image14.jpeg" ContentType="image/jpeg"/>
  <Override PartName="/ppt/media/image26.jpeg" ContentType="image/jpeg"/>
  <Override PartName="/ppt/media/image3.gif" ContentType="image/gif"/>
  <Override PartName="/ppt/media/image18.jpeg" ContentType="image/jpeg"/>
  <Override PartName="/ppt/media/image8.gif" ContentType="image/gif"/>
  <Override PartName="/ppt/media/image13.png" ContentType="image/png"/>
  <Override PartName="/ppt/media/image12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1.jpeg" ContentType="image/jpeg"/>
  <Override PartName="/ppt/media/image10.png" ContentType="image/png"/>
  <Override PartName="/ppt/media/image27.png" ContentType="image/png"/>
  <Override PartName="/ppt/media/image4.gif" ContentType="image/gif"/>
  <Override PartName="/ppt/media/image33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32.jpeg" ContentType="image/jpeg"/>
  <Override PartName="/ppt/media/image17.png" ContentType="image/pn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2BE263-8A8F-449D-B6C9-92ECAFA1C5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21B-8A75-4FDD-BCE0-F2C4026C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3E6-2316-4BEF-A276-85F317AB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A5BB-920B-4ABD-BC63-1431618C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1E79-C0B1-4CAE-B6E9-947E2782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19FD-0D28-4901-9FA2-5FB74844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98F-E723-4C6B-8652-632290FC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E93-B11D-493A-A05B-0F973FE9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1DA-67BD-4DB0-BD44-46FFC2AD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9CC-ADE9-4272-8C9D-EF855953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975-420F-4FB2-B9A8-5A09EBED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87E-38C3-4208-BA05-19FD920B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EAB-7E07-4074-8ED4-0AEBD1B2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441C68-3F3A-458F-9451-20216FE2EA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0/River_in_the_Amazon_rainfores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commons/2/21/Kamehamehabutterfly2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standaj.com/top/index.html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commons/d/d5/Jaguar_tier_2.jpg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commons/7/7a/Amazon_origin_at_Mismi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upload.wikimedia.org/wikipedia/commons/2/20/Amazon_near_Manaus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16000" y="1413000"/>
            <a:ext cx="6985080" cy="544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93840" y="2421000"/>
            <a:ext cx="4821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Times New Roman"/>
              </a:rPr>
              <a:t>LA AMAZONI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8000" y="4017960"/>
            <a:ext cx="55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« Problemática local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mpacto global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03280" y="558972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los Hernando ARTE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iversité de Liège- Diciembre d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187280" y="2494080"/>
            <a:ext cx="6553440" cy="2303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276720" y="189000"/>
            <a:ext cx="5621400" cy="647640"/>
            <a:chOff x="3276720" y="189000"/>
            <a:chExt cx="5621400" cy="647640"/>
          </a:xfrm>
        </p:grpSpPr>
        <p:sp>
          <p:nvSpPr>
            <p:cNvPr id="194" name=""/>
            <p:cNvSpPr/>
            <p:nvPr/>
          </p:nvSpPr>
          <p:spPr>
            <a:xfrm>
              <a:off x="4842000" y="189000"/>
              <a:ext cx="40561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3500" spc="-1" strike="noStrike">
                  <a:solidFill>
                    <a:srgbClr val="000000"/>
                  </a:solidFill>
                  <a:latin typeface="Arial Rounded MT Bold"/>
                </a:rPr>
                <a:t>Índice de materias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76720" y="765000"/>
              <a:ext cx="5184720" cy="7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332000" y="270828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2.   Biodivers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0" y="4076640"/>
            <a:ext cx="9144000" cy="1584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411280" y="260280"/>
            <a:ext cx="6651720" cy="647640"/>
            <a:chOff x="2411280" y="260280"/>
            <a:chExt cx="6651720" cy="647640"/>
          </a:xfrm>
        </p:grpSpPr>
        <p:grpSp>
          <p:nvGrpSpPr>
            <p:cNvPr id="202" name=""/>
            <p:cNvGrpSpPr/>
            <p:nvPr/>
          </p:nvGrpSpPr>
          <p:grpSpPr>
            <a:xfrm>
              <a:off x="2411280" y="260280"/>
              <a:ext cx="6554880" cy="647640"/>
              <a:chOff x="2411280" y="260280"/>
              <a:chExt cx="6554880" cy="647640"/>
            </a:xfrm>
          </p:grpSpPr>
          <p:sp>
            <p:nvSpPr>
              <p:cNvPr id="203" name=""/>
              <p:cNvSpPr/>
              <p:nvPr/>
            </p:nvSpPr>
            <p:spPr>
              <a:xfrm>
                <a:off x="4056480" y="260280"/>
                <a:ext cx="490968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3500" spc="-1" strike="noStrike">
                    <a:solidFill>
                      <a:srgbClr val="000000"/>
                    </a:solidFill>
                    <a:latin typeface="Arial Rounded MT Bold"/>
                  </a:rPr>
                  <a:t>            </a:t>
                </a:r>
                <a:r>
                  <a:rPr b="0" lang="en-GB" sz="3500" spc="-1" strike="noStrike">
                    <a:solidFill>
                      <a:srgbClr val="000000"/>
                    </a:solidFill>
                    <a:latin typeface="Arial Rounded MT Bold"/>
                  </a:rPr>
                  <a:t>2. Biodiversidad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411280" y="836640"/>
                <a:ext cx="5185080" cy="71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7334280" y="836640"/>
              <a:ext cx="1236600" cy="69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572680" y="836640"/>
              <a:ext cx="490320" cy="69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39640" y="4221000"/>
            <a:ext cx="38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,5  millones  de especies  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ectos (millones sin clasific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5157720"/>
            <a:ext cx="28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000 tipos de marip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3573360"/>
            <a:ext cx="3240000" cy="2473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23640" y="1644480"/>
            <a:ext cx="312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versidad de hábit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3640" y="2004840"/>
            <a:ext cx="289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versidad genéti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35280" y="1644480"/>
            <a:ext cx="2855520" cy="764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ibre de alteracion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or millones de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25080" y="1773360"/>
            <a:ext cx="1409040" cy="42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rag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16720" y="1989000"/>
            <a:ext cx="10080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0" y="2708280"/>
            <a:ext cx="9144000" cy="792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ucán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(Ramphastos sulfuratu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411280" y="260280"/>
            <a:ext cx="6651720" cy="647640"/>
            <a:chOff x="2411280" y="260280"/>
            <a:chExt cx="6651720" cy="647640"/>
          </a:xfrm>
        </p:grpSpPr>
        <p:grpSp>
          <p:nvGrpSpPr>
            <p:cNvPr id="220" name=""/>
            <p:cNvGrpSpPr/>
            <p:nvPr/>
          </p:nvGrpSpPr>
          <p:grpSpPr>
            <a:xfrm>
              <a:off x="2411280" y="260280"/>
              <a:ext cx="6554880" cy="647640"/>
              <a:chOff x="2411280" y="260280"/>
              <a:chExt cx="6554880" cy="647640"/>
            </a:xfrm>
          </p:grpSpPr>
          <p:sp>
            <p:nvSpPr>
              <p:cNvPr id="221" name=""/>
              <p:cNvSpPr/>
              <p:nvPr/>
            </p:nvSpPr>
            <p:spPr>
              <a:xfrm>
                <a:off x="4056480" y="260280"/>
                <a:ext cx="490968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3500" spc="-1" strike="noStrike">
                    <a:solidFill>
                      <a:srgbClr val="000000"/>
                    </a:solidFill>
                    <a:latin typeface="Arial Rounded MT Bold"/>
                  </a:rPr>
                  <a:t>            </a:t>
                </a:r>
                <a:r>
                  <a:rPr b="0" lang="en-GB" sz="3500" spc="-1" strike="noStrike">
                    <a:solidFill>
                      <a:srgbClr val="000000"/>
                    </a:solidFill>
                    <a:latin typeface="Arial Rounded MT Bold"/>
                  </a:rPr>
                  <a:t>2. Biodiversidad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411280" y="836640"/>
                <a:ext cx="5185080" cy="71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334280" y="836640"/>
              <a:ext cx="1236600" cy="69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572680" y="836640"/>
              <a:ext cx="490320" cy="69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95280" y="1197000"/>
            <a:ext cx="38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/5 de todas las especies de av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1628640"/>
            <a:ext cx="37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roximadamente 2000 espec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 aves y mamí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052640"/>
            <a:ext cx="4235400" cy="3176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5516640"/>
            <a:ext cx="9144000" cy="792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acamaya (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ra maca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1281240" y="3602160"/>
            <a:ext cx="2073240" cy="31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411280" y="260280"/>
            <a:ext cx="6651720" cy="647640"/>
            <a:chOff x="2411280" y="260280"/>
            <a:chExt cx="6651720" cy="647640"/>
          </a:xfrm>
        </p:grpSpPr>
        <p:grpSp>
          <p:nvGrpSpPr>
            <p:cNvPr id="234" name=""/>
            <p:cNvGrpSpPr/>
            <p:nvPr/>
          </p:nvGrpSpPr>
          <p:grpSpPr>
            <a:xfrm>
              <a:off x="2411280" y="260280"/>
              <a:ext cx="6554880" cy="647640"/>
              <a:chOff x="2411280" y="260280"/>
              <a:chExt cx="6554880" cy="64764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6480" y="260280"/>
                <a:ext cx="490968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3500" spc="-1" strike="noStrike">
                    <a:solidFill>
                      <a:srgbClr val="000000"/>
                    </a:solidFill>
                    <a:latin typeface="Arial Rounded MT Bold"/>
                  </a:rPr>
                  <a:t>            </a:t>
                </a:r>
                <a:r>
                  <a:rPr b="0" lang="en-GB" sz="3500" spc="-1" strike="noStrike">
                    <a:solidFill>
                      <a:srgbClr val="000000"/>
                    </a:solidFill>
                    <a:latin typeface="Arial Rounded MT Bold"/>
                  </a:rPr>
                  <a:t>2. Biodiversidad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411280" y="836640"/>
                <a:ext cx="5185080" cy="71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7334280" y="836640"/>
              <a:ext cx="1236600" cy="69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572680" y="836640"/>
              <a:ext cx="490320" cy="69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0" y="1700280"/>
            <a:ext cx="9144000" cy="649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1280" y="1003320"/>
            <a:ext cx="282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randes mamífe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4941720"/>
            <a:ext cx="9144000" cy="649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643200"/>
            <a:ext cx="9144000" cy="649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052640"/>
            <a:ext cx="3745080" cy="25034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972000" y="1795320"/>
            <a:ext cx="240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aguar (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otorong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468360" y="2492280"/>
            <a:ext cx="3024000" cy="2268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084720" y="3811680"/>
            <a:ext cx="90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5"/>
          <a:srcRect l="0" t="10487" r="0" b="13327"/>
          <a:stretch/>
        </p:blipFill>
        <p:spPr>
          <a:xfrm>
            <a:off x="4932360" y="4443480"/>
            <a:ext cx="3164040" cy="22986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692360" y="5013360"/>
            <a:ext cx="83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pí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dur="indefinite" fill="hold">
                      <p:stCondLst>
                        <p:cond delay="indefinite"/>
                      </p:stCondLst>
                      <p:childTnLst>
                        <p:par>
                          <p:cTn id="3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dur="indefinite" fill="hold">
                      <p:stCondLst>
                        <p:cond delay="indefinite"/>
                      </p:stCondLst>
                      <p:childTnLst>
                        <p:par>
                          <p:cTn id="3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dur="indefinite" fill="hold">
                      <p:stCondLst>
                        <p:cond delay="indefinite"/>
                      </p:stCondLst>
                      <p:childTnLst>
                        <p:par>
                          <p:cTn id="3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411280" y="260280"/>
            <a:ext cx="6651720" cy="647640"/>
            <a:chOff x="2411280" y="260280"/>
            <a:chExt cx="6651720" cy="647640"/>
          </a:xfrm>
        </p:grpSpPr>
        <p:grpSp>
          <p:nvGrpSpPr>
            <p:cNvPr id="253" name=""/>
            <p:cNvGrpSpPr/>
            <p:nvPr/>
          </p:nvGrpSpPr>
          <p:grpSpPr>
            <a:xfrm>
              <a:off x="2411280" y="260280"/>
              <a:ext cx="6554880" cy="647640"/>
              <a:chOff x="2411280" y="260280"/>
              <a:chExt cx="6554880" cy="647640"/>
            </a:xfrm>
          </p:grpSpPr>
          <p:sp>
            <p:nvSpPr>
              <p:cNvPr id="254" name=""/>
              <p:cNvSpPr/>
              <p:nvPr/>
            </p:nvSpPr>
            <p:spPr>
              <a:xfrm>
                <a:off x="4056480" y="260280"/>
                <a:ext cx="490968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3500" spc="-1" strike="noStrike">
                    <a:solidFill>
                      <a:srgbClr val="000000"/>
                    </a:solidFill>
                    <a:latin typeface="Arial Rounded MT Bold"/>
                  </a:rPr>
                  <a:t>            </a:t>
                </a:r>
                <a:r>
                  <a:rPr b="0" lang="en-GB" sz="3500" spc="-1" strike="noStrike">
                    <a:solidFill>
                      <a:srgbClr val="000000"/>
                    </a:solidFill>
                    <a:latin typeface="Arial Rounded MT Bold"/>
                  </a:rPr>
                  <a:t>2. Biodiversidad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411280" y="836640"/>
                <a:ext cx="5185080" cy="71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7334280" y="836640"/>
              <a:ext cx="1236600" cy="69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572680" y="836640"/>
              <a:ext cx="490320" cy="69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0" y="1844640"/>
            <a:ext cx="9144000" cy="100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rcRect l="19699" t="22965" r="21243" b="28646"/>
          <a:stretch/>
        </p:blipFill>
        <p:spPr>
          <a:xfrm>
            <a:off x="6156360" y="981000"/>
            <a:ext cx="2811600" cy="3456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55640" y="2205000"/>
            <a:ext cx="45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0 % de las especies de prim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4941720"/>
            <a:ext cx="9144000" cy="1008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252360" y="3333600"/>
            <a:ext cx="4751280" cy="3186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5076000" y="5084640"/>
            <a:ext cx="393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fibios y caimanes de tod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dur="indefinite" fill="hold">
                      <p:stCondLst>
                        <p:cond delay="indefinite"/>
                      </p:stCondLst>
                      <p:childTnLst>
                        <p:par>
                          <p:cTn id="3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411280" y="260280"/>
            <a:ext cx="6651720" cy="647640"/>
            <a:chOff x="2411280" y="260280"/>
            <a:chExt cx="6651720" cy="647640"/>
          </a:xfrm>
        </p:grpSpPr>
        <p:grpSp>
          <p:nvGrpSpPr>
            <p:cNvPr id="268" name=""/>
            <p:cNvGrpSpPr/>
            <p:nvPr/>
          </p:nvGrpSpPr>
          <p:grpSpPr>
            <a:xfrm>
              <a:off x="2411280" y="260280"/>
              <a:ext cx="6554880" cy="647640"/>
              <a:chOff x="2411280" y="260280"/>
              <a:chExt cx="6554880" cy="647640"/>
            </a:xfrm>
          </p:grpSpPr>
          <p:sp>
            <p:nvSpPr>
              <p:cNvPr id="269" name=""/>
              <p:cNvSpPr/>
              <p:nvPr/>
            </p:nvSpPr>
            <p:spPr>
              <a:xfrm>
                <a:off x="4056480" y="260280"/>
                <a:ext cx="490968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3500" spc="-1" strike="noStrike">
                    <a:solidFill>
                      <a:srgbClr val="000000"/>
                    </a:solidFill>
                    <a:latin typeface="Arial Rounded MT Bold"/>
                  </a:rPr>
                  <a:t>            </a:t>
                </a:r>
                <a:r>
                  <a:rPr b="0" lang="en-GB" sz="3500" spc="-1" strike="noStrike">
                    <a:solidFill>
                      <a:srgbClr val="000000"/>
                    </a:solidFill>
                    <a:latin typeface="Arial Rounded MT Bold"/>
                  </a:rPr>
                  <a:t>2. Biodiversidad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411280" y="836640"/>
                <a:ext cx="5185080" cy="71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7334280" y="836640"/>
              <a:ext cx="1236600" cy="69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572680" y="836640"/>
              <a:ext cx="490320" cy="69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038480" cy="2382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74" name=""/>
          <p:cNvSpPr/>
          <p:nvPr/>
        </p:nvSpPr>
        <p:spPr>
          <a:xfrm>
            <a:off x="0" y="4292640"/>
            <a:ext cx="9144000" cy="2232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27640" y="1125360"/>
            <a:ext cx="46778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yor diversidad en espec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eget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numerables especies de plant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n enumer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to interés científico y económ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tención: recursos mader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4365720"/>
            <a:ext cx="338400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or km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75000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tipos de árbo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50000   tipos de plant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90000     toneladas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iomasa vege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3924360" y="3429000"/>
            <a:ext cx="4968720" cy="315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dur="indefinite" fill="hold">
                      <p:stCondLst>
                        <p:cond delay="indefinite"/>
                      </p:stCondLst>
                      <p:childTnLst>
                        <p:par>
                          <p:cTn id="3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dur="indefinite" fill="hold">
                      <p:stCondLst>
                        <p:cond delay="indefinite"/>
                      </p:stCondLst>
                      <p:childTnLst>
                        <p:par>
                          <p:cTn id="3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 fill="hold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 fill="hold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187280" y="2494080"/>
            <a:ext cx="6553440" cy="2303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276720" y="189000"/>
            <a:ext cx="5621400" cy="647640"/>
            <a:chOff x="3276720" y="189000"/>
            <a:chExt cx="5621400" cy="647640"/>
          </a:xfrm>
        </p:grpSpPr>
        <p:sp>
          <p:nvSpPr>
            <p:cNvPr id="285" name=""/>
            <p:cNvSpPr/>
            <p:nvPr/>
          </p:nvSpPr>
          <p:spPr>
            <a:xfrm>
              <a:off x="4842000" y="189000"/>
              <a:ext cx="40561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3500" spc="-1" strike="noStrike">
                  <a:solidFill>
                    <a:srgbClr val="000000"/>
                  </a:solidFill>
                  <a:latin typeface="Arial Rounded MT Bold"/>
                </a:rPr>
                <a:t>Índice de materias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76720" y="765000"/>
              <a:ext cx="5184720" cy="7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332000" y="2708280"/>
            <a:ext cx="63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mpacto de la             actividad económ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24360" y="2781360"/>
            <a:ext cx="5040360" cy="3887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0440" y="1085760"/>
            <a:ext cx="3095640" cy="5543640"/>
          </a:xfrm>
          <a:prstGeom prst="rect">
            <a:avLst/>
          </a:prstGeom>
          <a:solidFill>
            <a:srgbClr val="ffffff">
              <a:alpha val="60000"/>
            </a:srgbClr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9640" y="1916280"/>
            <a:ext cx="309744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dustria mader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dustria petrol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gricul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ultivo de la soy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anader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tracción de o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er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idad portua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!!!Cultivos ilícitos ! !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!Tráfico de especies !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11120" y="107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1640" y="1268280"/>
            <a:ext cx="28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Principales sect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98560" y="260280"/>
            <a:ext cx="7983360" cy="647640"/>
            <a:chOff x="898560" y="260280"/>
            <a:chExt cx="7983360" cy="647640"/>
          </a:xfrm>
        </p:grpSpPr>
        <p:sp>
          <p:nvSpPr>
            <p:cNvPr id="296" name=""/>
            <p:cNvSpPr/>
            <p:nvPr/>
          </p:nvSpPr>
          <p:spPr>
            <a:xfrm>
              <a:off x="2522880" y="260280"/>
              <a:ext cx="63590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3500" spc="-1" strike="noStrike">
                  <a:solidFill>
                    <a:srgbClr val="000000"/>
                  </a:solidFill>
                  <a:latin typeface="Arial Rounded MT Bold"/>
                </a:rPr>
                <a:t>            </a:t>
              </a:r>
              <a:r>
                <a:rPr b="0" lang="en-GB" sz="3500" spc="-1" strike="noStrike">
                  <a:solidFill>
                    <a:srgbClr val="000000"/>
                  </a:solidFill>
                  <a:latin typeface="Arial Rounded MT Bold"/>
                </a:rPr>
                <a:t>3. Actividad económica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98560" y="836640"/>
              <a:ext cx="5184720" cy="7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5796000" y="836640"/>
            <a:ext cx="1236600" cy="6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59600" y="836640"/>
            <a:ext cx="490680" cy="6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16360" y="1916280"/>
            <a:ext cx="235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003 : 23000 km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08520" y="6308640"/>
            <a:ext cx="36417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! Caída del PIB del Brasil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15640" y="2276640"/>
            <a:ext cx="433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005:  área equivalente a Bélg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40840" y="5546880"/>
            <a:ext cx="13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0%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end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19960" y="5546880"/>
            <a:ext cx="15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00000 k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arrete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16720" y="3141720"/>
            <a:ext cx="381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 árbol = 40 árboles dañ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02120" y="2781360"/>
            <a:ext cx="40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Deficientes técnicas de tal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87560" y="3506760"/>
            <a:ext cx="392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000 compañías explotado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96000" y="1484280"/>
            <a:ext cx="294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Mercados: USA - 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24360" y="1052640"/>
            <a:ext cx="289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! DEFORESTACIÓN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16720" y="4363920"/>
            <a:ext cx="175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ual : 17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05920" y="5089680"/>
            <a:ext cx="310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ivel de colapso :  30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04120" y="436392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50% : 1500 – 199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50% : 1990 – 200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95640" y="3936960"/>
            <a:ext cx="287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Nivel de destruc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72360" y="5661000"/>
            <a:ext cx="792000" cy="647640"/>
          </a:xfrm>
          <a:custGeom>
            <a:avLst/>
            <a:gdLst>
              <a:gd name="textAreaLeft" fmla="*/ 123480 w 792000"/>
              <a:gd name="textAreaRight" fmla="*/ 693000 w 7920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07240" y="547560"/>
            <a:ext cx="2952720" cy="3743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dur="indefinite" fill="hold">
                      <p:stCondLst>
                        <p:cond delay="indefinite"/>
                      </p:stCondLst>
                      <p:childTnLst>
                        <p:par>
                          <p:cTn id="3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 fill="hold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dur="indefinite" fill="hold">
                      <p:stCondLst>
                        <p:cond delay="indefinite"/>
                      </p:stCondLst>
                      <p:childTnLst>
                        <p:par>
                          <p:cTn id="4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dur="indefinite" fill="hold">
                      <p:stCondLst>
                        <p:cond delay="indefinite"/>
                      </p:stCondLst>
                      <p:childTnLst>
                        <p:par>
                          <p:cTn id="4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 fill="hold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dur="indefinite" fill="hold">
                      <p:stCondLst>
                        <p:cond delay="indefinite"/>
                      </p:stCondLst>
                      <p:childTnLst>
                        <p:par>
                          <p:cTn id="4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 fill="hold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 fill="hold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 fill="hold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 fill="hold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dur="indefinite" fill="hold">
                      <p:stCondLst>
                        <p:cond delay="indefinite"/>
                      </p:stCondLst>
                      <p:childTnLst>
                        <p:par>
                          <p:cTn id="4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050920" y="6165720"/>
            <a:ext cx="5554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Vista panoramica de zonas no afect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353440" cy="58579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1116000" y="404640"/>
            <a:ext cx="6697800" cy="558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19" name=""/>
          <p:cNvSpPr/>
          <p:nvPr/>
        </p:nvSpPr>
        <p:spPr>
          <a:xfrm>
            <a:off x="1331280" y="6165720"/>
            <a:ext cx="67719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Quemas producto de la actividad agrícola e industr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dur="indefinite" fill="hold">
                      <p:stCondLst>
                        <p:cond delay="indefinite"/>
                      </p:stCondLst>
                      <p:childTnLst>
                        <p:par>
                          <p:cTn id="4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 fill="hold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dur="indefinite" fill="hold">
                      <p:stCondLst>
                        <p:cond delay="indefinite"/>
                      </p:stCondLst>
                      <p:childTnLst>
                        <p:par>
                          <p:cTn id="4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396720" y="260280"/>
            <a:ext cx="8352000" cy="6127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402560" y="6381720"/>
            <a:ext cx="668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aste entre zonas colonizadas y zonas vírge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700280"/>
            <a:ext cx="8209080" cy="443736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  Aspectos generales y geográ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1  La selva amazón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2  El río ama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.  Biodivers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.  Actividad económica – Impacto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4.  La problemática amazó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4.1 Recurso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4.1.1  Estudio de caso : explotación petr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5. Concl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276720" y="189000"/>
            <a:ext cx="5621400" cy="647640"/>
            <a:chOff x="3276720" y="189000"/>
            <a:chExt cx="5621400" cy="647640"/>
          </a:xfrm>
        </p:grpSpPr>
        <p:sp>
          <p:nvSpPr>
            <p:cNvPr id="58" name=""/>
            <p:cNvSpPr/>
            <p:nvPr/>
          </p:nvSpPr>
          <p:spPr>
            <a:xfrm>
              <a:off x="4842000" y="189000"/>
              <a:ext cx="40561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3500" spc="-1" strike="noStrike">
                  <a:solidFill>
                    <a:srgbClr val="000000"/>
                  </a:solidFill>
                  <a:latin typeface="Arial Rounded MT Bold"/>
                </a:rPr>
                <a:t>Índice de materias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76720" y="765000"/>
              <a:ext cx="5184720" cy="7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656480" y="765000"/>
            <a:ext cx="1236600" cy="7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618400" y="765000"/>
            <a:ext cx="490680" cy="7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0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024440" y="689040"/>
            <a:ext cx="3095640" cy="5543640"/>
          </a:xfrm>
          <a:prstGeom prst="rect">
            <a:avLst/>
          </a:prstGeom>
          <a:solidFill>
            <a:srgbClr val="ffffff">
              <a:alpha val="60000"/>
            </a:srgbClr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98560" y="260280"/>
            <a:ext cx="7983360" cy="647640"/>
            <a:chOff x="898560" y="260280"/>
            <a:chExt cx="7983360" cy="647640"/>
          </a:xfrm>
        </p:grpSpPr>
        <p:sp>
          <p:nvSpPr>
            <p:cNvPr id="327" name=""/>
            <p:cNvSpPr/>
            <p:nvPr/>
          </p:nvSpPr>
          <p:spPr>
            <a:xfrm>
              <a:off x="2522880" y="260280"/>
              <a:ext cx="63590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3500" spc="-1" strike="noStrike">
                  <a:solidFill>
                    <a:srgbClr val="000000"/>
                  </a:solidFill>
                  <a:latin typeface="Arial Rounded MT Bold"/>
                </a:rPr>
                <a:t>            </a:t>
              </a:r>
              <a:r>
                <a:rPr b="0" lang="en-GB" sz="3500" spc="-1" strike="noStrike">
                  <a:solidFill>
                    <a:srgbClr val="000000"/>
                  </a:solidFill>
                  <a:latin typeface="Arial Rounded MT Bold"/>
                </a:rPr>
                <a:t>3. Actividad económica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98560" y="836640"/>
              <a:ext cx="5184720" cy="7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39640" y="1916280"/>
            <a:ext cx="3097440" cy="48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dustria maded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dustria petrol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gricul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ultivo de la soy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anader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tracción de o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er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idad portua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!!! Cultivos ilícitos ! !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!Tráfico de especies !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1640" y="1268280"/>
            <a:ext cx="28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Principales sect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96000" y="836640"/>
            <a:ext cx="1236600" cy="6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59600" y="836640"/>
            <a:ext cx="490680" cy="6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80000" y="1082520"/>
            <a:ext cx="409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gricultura       :   12% del áre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 ganadería                to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85320" y="1197000"/>
            <a:ext cx="95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Y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27600" y="3284640"/>
            <a:ext cx="212220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aminac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l agu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500280"/>
            <a:ext cx="12672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rcu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330800" y="4221000"/>
            <a:ext cx="45417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glamen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ISTENTE pero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48360" y="4924440"/>
            <a:ext cx="299988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usencia de polít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08720" y="6431040"/>
            <a:ext cx="20840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RRUP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24720" y="1484280"/>
            <a:ext cx="792360" cy="216000"/>
          </a:xfrm>
          <a:custGeom>
            <a:avLst/>
            <a:gdLst>
              <a:gd name="textAreaLeft" fmla="*/ 9900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27640" y="350028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5400000">
            <a:off x="6338520" y="5770440"/>
            <a:ext cx="431640" cy="793800"/>
          </a:xfrm>
          <a:custGeom>
            <a:avLst/>
            <a:gdLst>
              <a:gd name="textAreaLeft" fmla="*/ 54000 w 431640"/>
              <a:gd name="textAreaRight" fmla="*/ 378000 w 431640"/>
              <a:gd name="textAreaTop" fmla="*/ 198360 h 793800"/>
              <a:gd name="textAreaBottom" fmla="*/ 595440 h 793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90800" y="2133720"/>
            <a:ext cx="1564560" cy="7642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ultivos 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fici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91160" y="2133720"/>
            <a:ext cx="1564560" cy="7642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elos 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ropi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564320" y="1844640"/>
            <a:ext cx="1387800" cy="4291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QU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753320" y="2421000"/>
            <a:ext cx="1206360" cy="7642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uev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rren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164360" y="2203560"/>
            <a:ext cx="503280" cy="434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64360" y="2637000"/>
            <a:ext cx="57636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2565360"/>
            <a:ext cx="43200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1280" y="1844640"/>
            <a:ext cx="2952720" cy="9367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1280" y="4221000"/>
            <a:ext cx="2952720" cy="1295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6021360"/>
            <a:ext cx="2952720" cy="576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dur="indefinite" fill="hold">
                      <p:stCondLst>
                        <p:cond delay="indefinite"/>
                      </p:stCondLst>
                      <p:childTnLst>
                        <p:par>
                          <p:cTn id="4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 fill="hold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 fill="hold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 fill="hold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 fill="hold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 fill="hold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dur="indefinite" fill="hold">
                      <p:stCondLst>
                        <p:cond delay="indefinite"/>
                      </p:stCondLst>
                      <p:childTnLst>
                        <p:par>
                          <p:cTn id="5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 fill="hold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 fill="hold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 fill="hold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 fill="hold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dur="indefinite" fill="hold">
                      <p:stCondLst>
                        <p:cond delay="indefinite"/>
                      </p:stCondLst>
                      <p:childTnLst>
                        <p:par>
                          <p:cTn id="5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7" dur="500" fill="hold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0" dur="500" fill="hold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dur="indefinite" fill="hold">
                      <p:stCondLst>
                        <p:cond delay="indefinite"/>
                      </p:stCondLst>
                      <p:childTnLst>
                        <p:par>
                          <p:cTn id="5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 fill="hold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 fill="hold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 fill="hold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84360" y="2133720"/>
            <a:ext cx="7848360" cy="3240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276720" y="189000"/>
            <a:ext cx="5621400" cy="647640"/>
            <a:chOff x="3276720" y="189000"/>
            <a:chExt cx="5621400" cy="647640"/>
          </a:xfrm>
        </p:grpSpPr>
        <p:sp>
          <p:nvSpPr>
            <p:cNvPr id="358" name=""/>
            <p:cNvSpPr/>
            <p:nvPr/>
          </p:nvSpPr>
          <p:spPr>
            <a:xfrm>
              <a:off x="4842000" y="189000"/>
              <a:ext cx="40561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3500" spc="-1" strike="noStrike">
                  <a:solidFill>
                    <a:srgbClr val="000000"/>
                  </a:solidFill>
                  <a:latin typeface="Arial Rounded MT Bold"/>
                </a:rPr>
                <a:t>Índice de materias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276720" y="765000"/>
              <a:ext cx="5184720" cy="7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755640" y="2276640"/>
            <a:ext cx="77040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4. La problemática amazón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4.1 Recursos natur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4.1.1 Estudio de caso I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plotación petrol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0" y="27000"/>
            <a:ext cx="9144000" cy="6858000"/>
            <a:chOff x="0" y="27000"/>
            <a:chExt cx="9144000" cy="685800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0" y="270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0" y="2700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7610400" y="692280"/>
            <a:ext cx="490680" cy="6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217440" y="836640"/>
            <a:ext cx="5506920" cy="60483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250920" y="5229360"/>
            <a:ext cx="2881080" cy="1152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3068640"/>
            <a:ext cx="2881080" cy="2160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19640" y="2585880"/>
            <a:ext cx="5444640" cy="764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pañía general de combustibles (AR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rlington Resource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(USA, T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2000" y="1341360"/>
            <a:ext cx="2663640" cy="1099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996 : “Bloque 23”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ato por 200.000 Hectáre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23880" y="4365720"/>
            <a:ext cx="1547640" cy="764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rritori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arayacu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4680" y="3213000"/>
            <a:ext cx="251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inguna consul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4320" y="3794040"/>
            <a:ext cx="310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udicación poc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anpar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siones financier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nacion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4320" y="3500280"/>
            <a:ext cx="306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inguna concer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664800" y="3819600"/>
            <a:ext cx="1890720" cy="764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?Apoyo de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unidad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91280" y="5229360"/>
            <a:ext cx="2017800" cy="1099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udio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otras etni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08320" y="3141720"/>
            <a:ext cx="144360" cy="2016000"/>
          </a:xfrm>
          <a:custGeom>
            <a:avLst/>
            <a:gdLst>
              <a:gd name="textAreaLeft" fmla="*/ 0 w 144360"/>
              <a:gd name="textAreaRight" fmla="*/ 52200 w 14436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29280" y="3429000"/>
            <a:ext cx="2994120" cy="764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ortante concienc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mbient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675640" y="4221000"/>
            <a:ext cx="180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22440" y="5445000"/>
            <a:ext cx="2030760" cy="7642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posición a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jec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444680" y="115920"/>
            <a:ext cx="7512120" cy="647640"/>
            <a:chOff x="1444680" y="115920"/>
            <a:chExt cx="7512120" cy="647640"/>
          </a:xfrm>
        </p:grpSpPr>
        <p:sp>
          <p:nvSpPr>
            <p:cNvPr id="381" name=""/>
            <p:cNvSpPr/>
            <p:nvPr/>
          </p:nvSpPr>
          <p:spPr>
            <a:xfrm>
              <a:off x="3119040" y="115920"/>
              <a:ext cx="58377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3500" spc="-1" strike="noStrike">
                  <a:solidFill>
                    <a:srgbClr val="000000"/>
                  </a:solidFill>
                  <a:latin typeface="Arial Rounded MT Bold"/>
                </a:rPr>
                <a:t>            </a:t>
              </a:r>
              <a:r>
                <a:rPr b="0" lang="en-GB" sz="3500" spc="-1" strike="noStrike">
                  <a:solidFill>
                    <a:srgbClr val="000000"/>
                  </a:solidFill>
                  <a:latin typeface="Arial Rounded MT Bold"/>
                </a:rPr>
                <a:t>4.1 Estudio de caso I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44680" y="692280"/>
              <a:ext cx="5184720" cy="7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6346800" y="692280"/>
            <a:ext cx="1236600" cy="6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508720" y="3714840"/>
            <a:ext cx="503280" cy="36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4076640"/>
            <a:ext cx="50328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48000" y="5373720"/>
            <a:ext cx="3178080" cy="9169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trucción de eco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astres ambien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esas incump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 rot="10800000">
            <a:off x="6156000" y="5661360"/>
            <a:ext cx="647640" cy="505080"/>
          </a:xfrm>
          <a:custGeom>
            <a:avLst/>
            <a:gdLst>
              <a:gd name="textAreaLeft" fmla="*/ 101160 w 647640"/>
              <a:gd name="textAreaRight" fmla="*/ 567000 w 647640"/>
              <a:gd name="textAreaTop" fmla="*/ 126000 h 505080"/>
              <a:gd name="textAreaBottom" fmla="*/ 37872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 rot="10800000">
            <a:off x="2771640" y="5586840"/>
            <a:ext cx="648000" cy="505080"/>
          </a:xfrm>
          <a:custGeom>
            <a:avLst/>
            <a:gdLst>
              <a:gd name="textAreaLeft" fmla="*/ 101160 w 648000"/>
              <a:gd name="textAreaRight" fmla="*/ 567000 w 648000"/>
              <a:gd name="textAreaTop" fmla="*/ 126000 h 505080"/>
              <a:gd name="textAreaBottom" fmla="*/ 37872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95120" y="-63360"/>
            <a:ext cx="24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Impact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dur="indefinite" fill="hold">
                      <p:stCondLst>
                        <p:cond delay="indefinite"/>
                      </p:stCondLst>
                      <p:childTnLst>
                        <p:par>
                          <p:cTn id="5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dur="indefinite" fill="hold">
                      <p:stCondLst>
                        <p:cond delay="indefinite"/>
                      </p:stCondLst>
                      <p:childTnLst>
                        <p:par>
                          <p:cTn id="5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 fill="hold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 fill="hold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 fill="hold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dur="indefinite" fill="hold">
                      <p:stCondLst>
                        <p:cond delay="indefinite"/>
                      </p:stCondLst>
                      <p:childTnLst>
                        <p:par>
                          <p:cTn id="5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dur="indefinite" fill="hold">
                      <p:stCondLst>
                        <p:cond delay="indefinite"/>
                      </p:stCondLst>
                      <p:childTnLst>
                        <p:par>
                          <p:cTn id="5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 fill="hold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dur="indefinite" fill="hold">
                      <p:stCondLst>
                        <p:cond delay="indefinite"/>
                      </p:stCondLst>
                      <p:childTnLst>
                        <p:par>
                          <p:cTn id="6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 fill="hold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 fill="hold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 fill="hold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 fill="hold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0" y="27000"/>
            <a:ext cx="9144000" cy="6858000"/>
            <a:chOff x="0" y="27000"/>
            <a:chExt cx="9144000" cy="6858000"/>
          </a:xfrm>
        </p:grpSpPr>
        <p:pic>
          <p:nvPicPr>
            <p:cNvPr id="391" name="" descr=""/>
            <p:cNvPicPr/>
            <p:nvPr/>
          </p:nvPicPr>
          <p:blipFill>
            <a:blip r:embed="rId1"/>
            <a:stretch/>
          </p:blipFill>
          <p:spPr>
            <a:xfrm>
              <a:off x="0" y="270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0" y="2700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403280" y="331920"/>
            <a:ext cx="7512480" cy="647640"/>
            <a:chOff x="1403280" y="331920"/>
            <a:chExt cx="7512480" cy="647640"/>
          </a:xfrm>
        </p:grpSpPr>
        <p:sp>
          <p:nvSpPr>
            <p:cNvPr id="394" name=""/>
            <p:cNvSpPr/>
            <p:nvPr/>
          </p:nvSpPr>
          <p:spPr>
            <a:xfrm>
              <a:off x="3078000" y="331920"/>
              <a:ext cx="58377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3500" spc="-1" strike="noStrike">
                  <a:solidFill>
                    <a:srgbClr val="000000"/>
                  </a:solidFill>
                  <a:latin typeface="Arial Rounded MT Bold"/>
                </a:rPr>
                <a:t>            </a:t>
              </a:r>
              <a:r>
                <a:rPr b="0" lang="en-GB" sz="3500" spc="-1" strike="noStrike">
                  <a:solidFill>
                    <a:srgbClr val="000000"/>
                  </a:solidFill>
                  <a:latin typeface="Arial Rounded MT Bold"/>
                </a:rPr>
                <a:t>4.1 Estudio de caso I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03280" y="907920"/>
              <a:ext cx="5184720" cy="7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6562800" y="907920"/>
            <a:ext cx="1236600" cy="6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23480" y="44280"/>
            <a:ext cx="24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Impact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911160"/>
            <a:ext cx="490680" cy="6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2852640"/>
            <a:ext cx="9144000" cy="2665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4000680" cy="5337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83640" y="1989000"/>
            <a:ext cx="352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Envenenamiento de tier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2852640"/>
            <a:ext cx="377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ériles para la siemb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aparición de la fau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arición de enfermeda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4000" y="5805360"/>
            <a:ext cx="4103640" cy="764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cursos para la supervivenc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 la comunidad en pelig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6680" y="4221000"/>
            <a:ext cx="1253520" cy="7642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ultiv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ás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32000" y="4149720"/>
            <a:ext cx="1500480" cy="4291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anader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51280" y="4797360"/>
            <a:ext cx="957960" cy="4291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s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9280" y="4005360"/>
            <a:ext cx="151308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324000" y="4003200"/>
            <a:ext cx="1295280" cy="129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050920" y="4581360"/>
            <a:ext cx="936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2195640" y="4435560"/>
            <a:ext cx="647640" cy="93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3640" y="4005360"/>
            <a:ext cx="115236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564000" y="3932280"/>
            <a:ext cx="863640" cy="8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dur="indefinite" fill="hold">
                      <p:stCondLst>
                        <p:cond delay="indefinite"/>
                      </p:stCondLst>
                      <p:childTnLst>
                        <p:par>
                          <p:cTn id="6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 fill="hold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dur="indefinite" fill="hold">
                      <p:stCondLst>
                        <p:cond delay="indefinite"/>
                      </p:stCondLst>
                      <p:childTnLst>
                        <p:par>
                          <p:cTn id="6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 fill="hold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 fill="hold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dur="indefinite" fill="hold">
                      <p:stCondLst>
                        <p:cond delay="indefinite"/>
                      </p:stCondLst>
                      <p:childTnLst>
                        <p:par>
                          <p:cTn id="6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0" y="0"/>
            <a:ext cx="9180360" cy="6885000"/>
            <a:chOff x="0" y="0"/>
            <a:chExt cx="9180360" cy="6885000"/>
          </a:xfrm>
        </p:grpSpPr>
        <p:pic>
          <p:nvPicPr>
            <p:cNvPr id="41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80360" cy="68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0" y="0"/>
              <a:ext cx="9180360" cy="688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440000" y="331920"/>
            <a:ext cx="7512120" cy="647640"/>
            <a:chOff x="1440000" y="331920"/>
            <a:chExt cx="7512120" cy="647640"/>
          </a:xfrm>
        </p:grpSpPr>
        <p:sp>
          <p:nvSpPr>
            <p:cNvPr id="417" name=""/>
            <p:cNvSpPr/>
            <p:nvPr/>
          </p:nvSpPr>
          <p:spPr>
            <a:xfrm>
              <a:off x="3114360" y="331920"/>
              <a:ext cx="58377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3500" spc="-1" strike="noStrike">
                  <a:solidFill>
                    <a:srgbClr val="000000"/>
                  </a:solidFill>
                  <a:latin typeface="Arial Rounded MT Bold"/>
                </a:rPr>
                <a:t>            </a:t>
              </a:r>
              <a:r>
                <a:rPr b="0" lang="en-GB" sz="3500" spc="-1" strike="noStrike">
                  <a:solidFill>
                    <a:srgbClr val="000000"/>
                  </a:solidFill>
                  <a:latin typeface="Arial Rounded MT Bold"/>
                </a:rPr>
                <a:t>4.1 Estudio de caso I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40000" y="907920"/>
              <a:ext cx="5184720" cy="7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6599160" y="907920"/>
            <a:ext cx="1236600" cy="6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60200" y="44280"/>
            <a:ext cx="24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Impact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64360" y="911160"/>
            <a:ext cx="490680" cy="6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1844640"/>
            <a:ext cx="9144000" cy="1295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4411800" y="1268280"/>
            <a:ext cx="4624200" cy="27752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0" y="4365720"/>
            <a:ext cx="9144000" cy="1798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250920" y="3500280"/>
            <a:ext cx="4392360" cy="31276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4644000" y="4437000"/>
            <a:ext cx="447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Abanadono de antiguos complej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76760" y="4941720"/>
            <a:ext cx="458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lan de adecu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monte de infraestruc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lanes de recupera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280" y="1341360"/>
            <a:ext cx="431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Manejo inadecuado de produc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-31320" y="2060640"/>
            <a:ext cx="461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echos peligro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ertido de químicos al ecosist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-36360" y="0"/>
            <a:ext cx="9180360" cy="6885000"/>
            <a:chOff x="-36360" y="0"/>
            <a:chExt cx="9180360" cy="6885000"/>
          </a:xfrm>
        </p:grpSpPr>
        <p:pic>
          <p:nvPicPr>
            <p:cNvPr id="431" name="" descr=""/>
            <p:cNvPicPr/>
            <p:nvPr/>
          </p:nvPicPr>
          <p:blipFill>
            <a:blip r:embed="rId1"/>
            <a:stretch/>
          </p:blipFill>
          <p:spPr>
            <a:xfrm>
              <a:off x="-36360" y="0"/>
              <a:ext cx="9180360" cy="68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-36360" y="0"/>
              <a:ext cx="9180360" cy="688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1403280" y="331920"/>
            <a:ext cx="7512480" cy="647640"/>
            <a:chOff x="1403280" y="331920"/>
            <a:chExt cx="7512480" cy="647640"/>
          </a:xfrm>
        </p:grpSpPr>
        <p:sp>
          <p:nvSpPr>
            <p:cNvPr id="434" name=""/>
            <p:cNvSpPr/>
            <p:nvPr/>
          </p:nvSpPr>
          <p:spPr>
            <a:xfrm>
              <a:off x="3078000" y="331920"/>
              <a:ext cx="58377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3500" spc="-1" strike="noStrike">
                  <a:solidFill>
                    <a:srgbClr val="000000"/>
                  </a:solidFill>
                  <a:latin typeface="Arial Rounded MT Bold"/>
                </a:rPr>
                <a:t>            </a:t>
              </a:r>
              <a:r>
                <a:rPr b="0" lang="en-GB" sz="3500" spc="-1" strike="noStrike">
                  <a:solidFill>
                    <a:srgbClr val="000000"/>
                  </a:solidFill>
                  <a:latin typeface="Arial Rounded MT Bold"/>
                </a:rPr>
                <a:t>4.1 Estudio de caso I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03280" y="907920"/>
              <a:ext cx="5184720" cy="7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6562800" y="907920"/>
            <a:ext cx="1236600" cy="6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423480" y="44280"/>
            <a:ext cx="24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Impact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028000" y="911160"/>
            <a:ext cx="490680" cy="6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36360" y="4510080"/>
            <a:ext cx="9144000" cy="1871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6405480" cy="4807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1116000" y="1916280"/>
            <a:ext cx="6985080" cy="46274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1258920" y="1773360"/>
            <a:ext cx="6553080" cy="43686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468360" y="1052640"/>
            <a:ext cx="307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recuentes acciden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 ductos y transpor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18920" y="1197000"/>
            <a:ext cx="3598920" cy="4291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ño masivo al ecosist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35280" y="126828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dur="indefinite" fill="hold">
                      <p:stCondLst>
                        <p:cond delay="indefinite"/>
                      </p:stCondLst>
                      <p:childTnLst>
                        <p:par>
                          <p:cTn id="6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 fill="hold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dur="indefinite" fill="hold">
                      <p:stCondLst>
                        <p:cond delay="indefinite"/>
                      </p:stCondLst>
                      <p:childTnLst>
                        <p:par>
                          <p:cTn id="6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 fill="hold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dur="indefinite" fill="hold">
                      <p:stCondLst>
                        <p:cond delay="indefinite"/>
                      </p:stCondLst>
                      <p:childTnLst>
                        <p:par>
                          <p:cTn id="6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-36360" y="0"/>
            <a:ext cx="9180360" cy="6885000"/>
            <a:chOff x="-36360" y="0"/>
            <a:chExt cx="9180360" cy="6885000"/>
          </a:xfrm>
        </p:grpSpPr>
        <p:pic>
          <p:nvPicPr>
            <p:cNvPr id="447" name="" descr=""/>
            <p:cNvPicPr/>
            <p:nvPr/>
          </p:nvPicPr>
          <p:blipFill>
            <a:blip r:embed="rId1"/>
            <a:stretch/>
          </p:blipFill>
          <p:spPr>
            <a:xfrm>
              <a:off x="-36360" y="0"/>
              <a:ext cx="9180360" cy="68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-36360" y="0"/>
              <a:ext cx="9180360" cy="688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3276720" y="189000"/>
            <a:ext cx="5621400" cy="647640"/>
            <a:chOff x="3276720" y="189000"/>
            <a:chExt cx="5621400" cy="647640"/>
          </a:xfrm>
        </p:grpSpPr>
        <p:sp>
          <p:nvSpPr>
            <p:cNvPr id="451" name=""/>
            <p:cNvSpPr/>
            <p:nvPr/>
          </p:nvSpPr>
          <p:spPr>
            <a:xfrm>
              <a:off x="4842000" y="189000"/>
              <a:ext cx="40561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3500" spc="-1" strike="noStrike">
                  <a:solidFill>
                    <a:srgbClr val="000000"/>
                  </a:solidFill>
                  <a:latin typeface="Arial Rounded MT Bold"/>
                </a:rPr>
                <a:t>Índice de materias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276720" y="765000"/>
              <a:ext cx="5184720" cy="7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684360" y="2708280"/>
            <a:ext cx="6840360" cy="1871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78136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4.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-36360" y="0"/>
            <a:ext cx="9180360" cy="6885000"/>
            <a:chOff x="-36360" y="0"/>
            <a:chExt cx="9180360" cy="6885000"/>
          </a:xfrm>
        </p:grpSpPr>
        <p:pic>
          <p:nvPicPr>
            <p:cNvPr id="458" name="" descr=""/>
            <p:cNvPicPr/>
            <p:nvPr/>
          </p:nvPicPr>
          <p:blipFill>
            <a:blip r:embed="rId1"/>
            <a:stretch/>
          </p:blipFill>
          <p:spPr>
            <a:xfrm>
              <a:off x="-36360" y="0"/>
              <a:ext cx="9180360" cy="68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-36360" y="0"/>
              <a:ext cx="9180360" cy="688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276720" y="189000"/>
            <a:ext cx="5419080" cy="647640"/>
            <a:chOff x="3276720" y="189000"/>
            <a:chExt cx="5419080" cy="647640"/>
          </a:xfrm>
        </p:grpSpPr>
        <p:sp>
          <p:nvSpPr>
            <p:cNvPr id="462" name=""/>
            <p:cNvSpPr/>
            <p:nvPr/>
          </p:nvSpPr>
          <p:spPr>
            <a:xfrm>
              <a:off x="4920120" y="189000"/>
              <a:ext cx="37756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3500" spc="-1" strike="noStrike">
                  <a:solidFill>
                    <a:srgbClr val="000000"/>
                  </a:solidFill>
                  <a:latin typeface="Arial Rounded MT Bold"/>
                </a:rPr>
                <a:t>Para saber más...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76720" y="765000"/>
              <a:ext cx="5184720" cy="7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539640" y="1052640"/>
            <a:ext cx="7993080" cy="5545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ttp://www.gaiaamazonas.org/espanol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ttp://survivalfrance.org/sights.php?gallery_id=31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ttp://www.sarayacu.com/oil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ttp://www.eltiempo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ttp://www.lainsignia.org/2005/octubre/int_017.ht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ttp://www.lukemastin.com/diary/gallery_amazonas.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ttp://www.erdoelinamazonien.org/amazonien.html?&amp;L=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ttp://www.cgc.com.ar/cgc/home.ht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4360" y="2781360"/>
            <a:ext cx="770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187280" y="2349360"/>
            <a:ext cx="6553440" cy="2303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276720" y="189000"/>
            <a:ext cx="5621400" cy="647640"/>
            <a:chOff x="3276720" y="189000"/>
            <a:chExt cx="5621400" cy="647640"/>
          </a:xfrm>
        </p:grpSpPr>
        <p:sp>
          <p:nvSpPr>
            <p:cNvPr id="69" name=""/>
            <p:cNvSpPr/>
            <p:nvPr/>
          </p:nvSpPr>
          <p:spPr>
            <a:xfrm>
              <a:off x="4842000" y="189000"/>
              <a:ext cx="40561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3500" spc="-1" strike="noStrike">
                  <a:solidFill>
                    <a:srgbClr val="000000"/>
                  </a:solidFill>
                  <a:latin typeface="Arial Rounded MT Bold"/>
                </a:rPr>
                <a:t>Índice de materias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76720" y="765000"/>
              <a:ext cx="5184720" cy="7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619280" y="2492280"/>
            <a:ext cx="60483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Aspectos generales y geográfic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1.1  La selva amazónica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1.1  El río amazon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0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187280" y="2349360"/>
            <a:ext cx="6553440" cy="3672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457360" y="189000"/>
            <a:ext cx="6651720" cy="647640"/>
            <a:chOff x="2457360" y="189000"/>
            <a:chExt cx="6651720" cy="647640"/>
          </a:xfrm>
        </p:grpSpPr>
        <p:grpSp>
          <p:nvGrpSpPr>
            <p:cNvPr id="77" name=""/>
            <p:cNvGrpSpPr/>
            <p:nvPr/>
          </p:nvGrpSpPr>
          <p:grpSpPr>
            <a:xfrm>
              <a:off x="2457360" y="189000"/>
              <a:ext cx="6342480" cy="647640"/>
              <a:chOff x="2457360" y="189000"/>
              <a:chExt cx="6342480" cy="647640"/>
            </a:xfrm>
          </p:grpSpPr>
          <p:sp>
            <p:nvSpPr>
              <p:cNvPr id="78" name=""/>
              <p:cNvSpPr/>
              <p:nvPr/>
            </p:nvSpPr>
            <p:spPr>
              <a:xfrm>
                <a:off x="4068360" y="189000"/>
                <a:ext cx="473148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3500" spc="-1" strike="noStrike">
                    <a:solidFill>
                      <a:srgbClr val="000000"/>
                    </a:solidFill>
                    <a:latin typeface="Arial Rounded MT Bold"/>
                  </a:rPr>
                  <a:t>1. Aspectos generales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457360" y="765000"/>
                <a:ext cx="5184720" cy="71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380360" y="765000"/>
              <a:ext cx="1236600" cy="7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18400" y="765000"/>
              <a:ext cx="490680" cy="7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50920" y="134136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 cuenca comprende 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íses suramerica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142280" y="2709720"/>
            <a:ext cx="2553480" cy="571680"/>
            <a:chOff x="1142280" y="2709720"/>
            <a:chExt cx="2553480" cy="571680"/>
          </a:xfrm>
        </p:grpSpPr>
        <p:sp>
          <p:nvSpPr>
            <p:cNvPr id="84" name=""/>
            <p:cNvSpPr/>
            <p:nvPr/>
          </p:nvSpPr>
          <p:spPr>
            <a:xfrm>
              <a:off x="1142280" y="275436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Boliv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2781360" y="2709720"/>
              <a:ext cx="91440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5105160" y="3643200"/>
            <a:ext cx="2346480" cy="580320"/>
            <a:chOff x="5105160" y="3643200"/>
            <a:chExt cx="2346480" cy="580320"/>
          </a:xfrm>
        </p:grpSpPr>
        <p:sp>
          <p:nvSpPr>
            <p:cNvPr id="87" name=""/>
            <p:cNvSpPr/>
            <p:nvPr/>
          </p:nvSpPr>
          <p:spPr>
            <a:xfrm>
              <a:off x="5105160" y="3763800"/>
              <a:ext cx="15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Colomb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6537240" y="3643200"/>
              <a:ext cx="91440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5128560" y="2747880"/>
            <a:ext cx="2323080" cy="571680"/>
            <a:chOff x="5128560" y="2747880"/>
            <a:chExt cx="2323080" cy="571680"/>
          </a:xfrm>
        </p:grpSpPr>
        <p:sp>
          <p:nvSpPr>
            <p:cNvPr id="90" name=""/>
            <p:cNvSpPr/>
            <p:nvPr/>
          </p:nvSpPr>
          <p:spPr>
            <a:xfrm>
              <a:off x="5128560" y="279252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Bras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6537240" y="2747880"/>
              <a:ext cx="91440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"/>
          <p:cNvGrpSpPr/>
          <p:nvPr/>
        </p:nvGrpSpPr>
        <p:grpSpPr>
          <a:xfrm>
            <a:off x="5176080" y="4513320"/>
            <a:ext cx="2329560" cy="571320"/>
            <a:chOff x="5176080" y="4513320"/>
            <a:chExt cx="2329560" cy="571320"/>
          </a:xfrm>
        </p:grpSpPr>
        <p:sp>
          <p:nvSpPr>
            <p:cNvPr id="93" name=""/>
            <p:cNvSpPr/>
            <p:nvPr/>
          </p:nvSpPr>
          <p:spPr>
            <a:xfrm>
              <a:off x="5176080" y="4549680"/>
              <a:ext cx="135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Ecua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5"/>
            <a:stretch/>
          </p:blipFill>
          <p:spPr>
            <a:xfrm>
              <a:off x="6591240" y="4513320"/>
              <a:ext cx="91440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1149120" y="3498840"/>
            <a:ext cx="2546640" cy="580320"/>
            <a:chOff x="1149120" y="3498840"/>
            <a:chExt cx="2546640" cy="580320"/>
          </a:xfrm>
        </p:grpSpPr>
        <p:sp>
          <p:nvSpPr>
            <p:cNvPr id="96" name=""/>
            <p:cNvSpPr/>
            <p:nvPr/>
          </p:nvSpPr>
          <p:spPr>
            <a:xfrm>
              <a:off x="1149120" y="3619440"/>
              <a:ext cx="8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Per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6"/>
            <a:stretch/>
          </p:blipFill>
          <p:spPr>
            <a:xfrm>
              <a:off x="2781360" y="3498840"/>
              <a:ext cx="91440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"/>
          <p:cNvGrpSpPr/>
          <p:nvPr/>
        </p:nvGrpSpPr>
        <p:grpSpPr>
          <a:xfrm>
            <a:off x="1140840" y="4513320"/>
            <a:ext cx="2554920" cy="571320"/>
            <a:chOff x="1140840" y="4513320"/>
            <a:chExt cx="2554920" cy="571320"/>
          </a:xfrm>
        </p:grpSpPr>
        <p:sp>
          <p:nvSpPr>
            <p:cNvPr id="99" name=""/>
            <p:cNvSpPr/>
            <p:nvPr/>
          </p:nvSpPr>
          <p:spPr>
            <a:xfrm>
              <a:off x="1140840" y="4557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Guya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7"/>
            <a:stretch/>
          </p:blipFill>
          <p:spPr>
            <a:xfrm>
              <a:off x="2781360" y="4513320"/>
              <a:ext cx="91440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1139760" y="5378400"/>
            <a:ext cx="2556000" cy="571680"/>
            <a:chOff x="1139760" y="5378400"/>
            <a:chExt cx="2556000" cy="571680"/>
          </a:xfrm>
        </p:grpSpPr>
        <p:sp>
          <p:nvSpPr>
            <p:cNvPr id="102" name=""/>
            <p:cNvSpPr/>
            <p:nvPr/>
          </p:nvSpPr>
          <p:spPr>
            <a:xfrm>
              <a:off x="1139760" y="5452920"/>
              <a:ext cx="165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Venezue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8"/>
            <a:stretch/>
          </p:blipFill>
          <p:spPr>
            <a:xfrm>
              <a:off x="2781360" y="5378400"/>
              <a:ext cx="914400" cy="571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95280" y="3860640"/>
            <a:ext cx="7920000" cy="2664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retera « Trans-amazónica» Br-2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7360" y="189000"/>
            <a:ext cx="6651720" cy="647640"/>
            <a:chOff x="2457360" y="189000"/>
            <a:chExt cx="6651720" cy="647640"/>
          </a:xfrm>
        </p:grpSpPr>
        <p:grpSp>
          <p:nvGrpSpPr>
            <p:cNvPr id="109" name=""/>
            <p:cNvGrpSpPr/>
            <p:nvPr/>
          </p:nvGrpSpPr>
          <p:grpSpPr>
            <a:xfrm>
              <a:off x="2457360" y="189000"/>
              <a:ext cx="6342480" cy="647640"/>
              <a:chOff x="2457360" y="189000"/>
              <a:chExt cx="6342480" cy="647640"/>
            </a:xfrm>
          </p:grpSpPr>
          <p:sp>
            <p:nvSpPr>
              <p:cNvPr id="110" name=""/>
              <p:cNvSpPr/>
              <p:nvPr/>
            </p:nvSpPr>
            <p:spPr>
              <a:xfrm>
                <a:off x="4068360" y="189000"/>
                <a:ext cx="473148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3500" spc="-1" strike="noStrike">
                    <a:solidFill>
                      <a:srgbClr val="000000"/>
                    </a:solidFill>
                    <a:latin typeface="Arial Rounded MT Bold"/>
                  </a:rPr>
                  <a:t>1. Aspectos generales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457360" y="765000"/>
                <a:ext cx="5184720" cy="71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7380360" y="765000"/>
              <a:ext cx="1236600" cy="7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18400" y="765000"/>
              <a:ext cx="490680" cy="7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32720" y="1387440"/>
            <a:ext cx="2388960" cy="70380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va tropical má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ensa del plan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92720" y="1963800"/>
            <a:ext cx="2501640" cy="70380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ortanci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lmón del plane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08560" y="879480"/>
            <a:ext cx="2219760" cy="70380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ervació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rema ur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3440" y="2671920"/>
            <a:ext cx="2460600" cy="70380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/10 de los bos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 plan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16320" y="1387440"/>
            <a:ext cx="2416320" cy="70380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rme signifi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7840" y="831960"/>
            <a:ext cx="38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elva amazónica - impor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437120" y="2097360"/>
            <a:ext cx="289080" cy="503280"/>
          </a:xfrm>
          <a:custGeom>
            <a:avLst/>
            <a:gdLst>
              <a:gd name="textAreaLeft" fmla="*/ 45000 w 289080"/>
              <a:gd name="textAreaRight" fmla="*/ 253080 w 2890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87640" y="1341360"/>
            <a:ext cx="216000" cy="2016360"/>
          </a:xfrm>
          <a:custGeom>
            <a:avLst/>
            <a:gdLst>
              <a:gd name="textAreaLeft" fmla="*/ 0 w 216000"/>
              <a:gd name="textAreaRight" fmla="*/ 78120 w 21600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651640" y="1195200"/>
            <a:ext cx="6490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1773360"/>
            <a:ext cx="6490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1640" y="2395440"/>
            <a:ext cx="2487960" cy="70380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ncipal purificad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 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2060640"/>
            <a:ext cx="144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4051440"/>
            <a:ext cx="36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incipales focos urban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7280" y="448308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quitos (P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7280" y="526896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ticia (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16560" y="4627440"/>
            <a:ext cx="201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naus     (B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lem do par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0560" y="4292640"/>
            <a:ext cx="288720" cy="1224000"/>
          </a:xfrm>
          <a:custGeom>
            <a:avLst/>
            <a:gdLst>
              <a:gd name="textAreaLeft" fmla="*/ 0 w 288720"/>
              <a:gd name="textAreaRight" fmla="*/ 10404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08240" y="4124160"/>
            <a:ext cx="2289960" cy="39888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vidad portu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22640" y="4724280"/>
            <a:ext cx="3026160" cy="39888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porte a la colo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41360" y="5249880"/>
            <a:ext cx="3153960" cy="39888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porte para la ex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162000"/>
            <a:ext cx="9144000" cy="6858000"/>
            <a:chOff x="0" y="162000"/>
            <a:chExt cx="9144000" cy="685800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0" y="1620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16200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24000" y="3645000"/>
            <a:ext cx="8569080" cy="309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411280" y="260280"/>
            <a:ext cx="6651720" cy="647640"/>
            <a:chOff x="2411280" y="260280"/>
            <a:chExt cx="6651720" cy="647640"/>
          </a:xfrm>
        </p:grpSpPr>
        <p:grpSp>
          <p:nvGrpSpPr>
            <p:cNvPr id="139" name=""/>
            <p:cNvGrpSpPr/>
            <p:nvPr/>
          </p:nvGrpSpPr>
          <p:grpSpPr>
            <a:xfrm>
              <a:off x="2411280" y="260280"/>
              <a:ext cx="6342840" cy="647640"/>
              <a:chOff x="2411280" y="260280"/>
              <a:chExt cx="6342840" cy="647640"/>
            </a:xfrm>
          </p:grpSpPr>
          <p:sp>
            <p:nvSpPr>
              <p:cNvPr id="140" name=""/>
              <p:cNvSpPr/>
              <p:nvPr/>
            </p:nvSpPr>
            <p:spPr>
              <a:xfrm>
                <a:off x="4022640" y="260280"/>
                <a:ext cx="473148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3500" spc="-1" strike="noStrike">
                    <a:solidFill>
                      <a:srgbClr val="000000"/>
                    </a:solidFill>
                    <a:latin typeface="Arial Rounded MT Bold"/>
                  </a:rPr>
                  <a:t>1. Aspectos generales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411280" y="836640"/>
                <a:ext cx="5185080" cy="71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7334280" y="836640"/>
              <a:ext cx="1236600" cy="69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72680" y="836640"/>
              <a:ext cx="490320" cy="69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50920" y="1003320"/>
            <a:ext cx="237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El río amazo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1557360"/>
            <a:ext cx="40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mbres nativos:  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aranaguazú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uyerma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olimo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46840" y="1349280"/>
            <a:ext cx="1892160" cy="70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cente Yañe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nzòn (15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184464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9640" y="1519200"/>
            <a:ext cx="15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veg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20360" y="1197000"/>
            <a:ext cx="18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ua po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32360" y="2395440"/>
            <a:ext cx="3965400" cy="398880"/>
          </a:xfrm>
          <a:prstGeom prst="rect">
            <a:avLst/>
          </a:prstGeom>
          <a:noFill/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ío santa maría del mar dulce 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0360" y="2924280"/>
            <a:ext cx="1800360" cy="398880"/>
          </a:xfrm>
          <a:prstGeom prst="rect">
            <a:avLst/>
          </a:prstGeom>
          <a:noFill/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ío grand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32000" y="2708280"/>
            <a:ext cx="1357200" cy="70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ancis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ell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8720" y="3860640"/>
            <a:ext cx="27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undo más largo: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19640" y="3860640"/>
            <a:ext cx="33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 lejos, el más caudal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19720" y="386064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785 K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40000" y="1557360"/>
            <a:ext cx="289080" cy="934920"/>
          </a:xfrm>
          <a:custGeom>
            <a:avLst/>
            <a:gdLst>
              <a:gd name="textAreaLeft" fmla="*/ 184680 w 289080"/>
              <a:gd name="textAreaRight" fmla="*/ 289080 w 28908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56000" y="1773360"/>
            <a:ext cx="503280" cy="576000"/>
          </a:xfrm>
          <a:custGeom>
            <a:avLst/>
            <a:gdLst>
              <a:gd name="textAreaLeft" fmla="*/ 78480 w 503280"/>
              <a:gd name="textAreaRight" fmla="*/ 440640 w 50328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2852640"/>
            <a:ext cx="2158920" cy="398880"/>
          </a:xfrm>
          <a:prstGeom prst="rect">
            <a:avLst/>
          </a:prstGeom>
          <a:noFill/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o  Amazon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2557440" y="2784600"/>
            <a:ext cx="503280" cy="576000"/>
          </a:xfrm>
          <a:custGeom>
            <a:avLst/>
            <a:gdLst>
              <a:gd name="textAreaLeft" fmla="*/ 78480 w 503280"/>
              <a:gd name="textAreaRight" fmla="*/ 440640 w 50328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0000" y="4654440"/>
            <a:ext cx="426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cho  - Desembocadura 300 K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elta del río       100 K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Varía de      1.5 a 40 K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4720" y="5710320"/>
            <a:ext cx="1950120" cy="3988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la do Marajò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14640" y="5710320"/>
            <a:ext cx="1541520" cy="3988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ejad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71000" y="4411800"/>
            <a:ext cx="2865960" cy="3988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20.000 – 300.000 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76880" y="4987800"/>
            <a:ext cx="3471840" cy="1008720"/>
          </a:xfrm>
          <a:prstGeom prst="rect">
            <a:avLst/>
          </a:prstGeom>
          <a:noFill/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ssissi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+ Nil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=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udal en 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+ Yanntz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lán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6237360"/>
            <a:ext cx="49064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/5 del agua incorporada al océano 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rcRect l="921" t="0" r="1825" b="0"/>
          <a:stretch/>
        </p:blipFill>
        <p:spPr>
          <a:xfrm>
            <a:off x="684360" y="333360"/>
            <a:ext cx="7704000" cy="59421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360" y="6315120"/>
            <a:ext cx="7788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esembocadura del río Amazonas en el océano Atlánt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967280" y="3213000"/>
            <a:ext cx="4176720" cy="3384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15920"/>
            <a:ext cx="4399200" cy="659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grpSp>
        <p:nvGrpSpPr>
          <p:cNvPr id="173" name=""/>
          <p:cNvGrpSpPr/>
          <p:nvPr/>
        </p:nvGrpSpPr>
        <p:grpSpPr>
          <a:xfrm>
            <a:off x="2411280" y="260280"/>
            <a:ext cx="6651720" cy="647640"/>
            <a:chOff x="2411280" y="260280"/>
            <a:chExt cx="6651720" cy="647640"/>
          </a:xfrm>
        </p:grpSpPr>
        <p:grpSp>
          <p:nvGrpSpPr>
            <p:cNvPr id="174" name=""/>
            <p:cNvGrpSpPr/>
            <p:nvPr/>
          </p:nvGrpSpPr>
          <p:grpSpPr>
            <a:xfrm>
              <a:off x="2411280" y="260280"/>
              <a:ext cx="6342840" cy="647640"/>
              <a:chOff x="2411280" y="260280"/>
              <a:chExt cx="6342840" cy="647640"/>
            </a:xfrm>
          </p:grpSpPr>
          <p:sp>
            <p:nvSpPr>
              <p:cNvPr id="175" name=""/>
              <p:cNvSpPr/>
              <p:nvPr/>
            </p:nvSpPr>
            <p:spPr>
              <a:xfrm>
                <a:off x="4022640" y="260280"/>
                <a:ext cx="473148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3500" spc="-1" strike="noStrike">
                    <a:solidFill>
                      <a:srgbClr val="000000"/>
                    </a:solidFill>
                    <a:latin typeface="Arial Rounded MT Bold"/>
                  </a:rPr>
                  <a:t>1. Aspectos generales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411280" y="836640"/>
                <a:ext cx="5185080" cy="71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7334280" y="836640"/>
              <a:ext cx="1236600" cy="69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72680" y="836640"/>
              <a:ext cx="490320" cy="69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641840" y="1274760"/>
            <a:ext cx="43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brada Apacheta (Nevado del Mism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597 m.s.n.m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quipa (P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94200" y="3213000"/>
            <a:ext cx="4111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ua de deshiel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Lucida Sans Unicode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ón     Río apurimac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Cau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ío ucayal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ío Marañ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ío negro (B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udal del r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31280" y="4149720"/>
            <a:ext cx="288720" cy="792000"/>
          </a:xfrm>
          <a:custGeom>
            <a:avLst/>
            <a:gdLst>
              <a:gd name="textAreaLeft" fmla="*/ 0 w 288720"/>
              <a:gd name="textAreaRight" fmla="*/ 104040 w 2887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27640" y="5878440"/>
            <a:ext cx="3311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0560" y="2108160"/>
            <a:ext cx="448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a de convergencia     Lluvi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tropical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  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71280" y="1052640"/>
            <a:ext cx="457200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dur="indefinite" fill="hold">
                      <p:stCondLst>
                        <p:cond delay="indefinite"/>
                      </p:stCondLst>
                      <p:childTnLst>
                        <p:par>
                          <p:cTn id="2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49840" y="6386400"/>
            <a:ext cx="861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30 Km con densidades, temperaturas y velocidades difer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04640"/>
            <a:ext cx="8209080" cy="596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